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C0C-28BF-4C00-A91B-E90D242E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5DE-3B3F-4F2D-A0A9-E7CC4F38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268-B552-4251-A297-11723CB6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166-0A67-4CF7-854E-A428F76B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D1A-3D0C-4BE1-8763-234EFBEF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F12-8C66-4413-8CC8-FD8A76E8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FDF-F4AA-4C2A-A356-C3426493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E42-9D55-4798-B645-F4C2024D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E13-E8A9-479C-9E9D-D268AA9E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310-AAA4-48A7-9024-EDA03B1F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7FC-BC0E-45B1-8388-EB1EFF78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855-B04C-4A07-817A-C7277F91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48B2-AD53-462A-81B7-7EA249EECD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14" descr="j0293236"/>
          <p:cNvPicPr/>
          <p:nvPr/>
        </p:nvPicPr>
        <p:blipFill>
          <a:blip r:embed="rId1"/>
          <a:stretch/>
        </p:blipFill>
        <p:spPr>
          <a:xfrm>
            <a:off x="260280" y="370836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Pour aller à l’office de tourisme, s’il vous pla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66ff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AutoShape 50"/>
          <p:cNvSpPr/>
          <p:nvPr/>
        </p:nvSpPr>
        <p:spPr>
          <a:xfrm flipH="1">
            <a:off x="1413000" y="5435640"/>
            <a:ext cx="2520720" cy="2736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44"/>
          <p:cNvSpPr/>
          <p:nvPr/>
        </p:nvSpPr>
        <p:spPr>
          <a:xfrm flipH="1">
            <a:off x="1125360" y="2124000"/>
            <a:ext cx="2448000" cy="2665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60280" y="324000"/>
          <a:ext cx="6193080" cy="849600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58"/>
          <p:cNvSpPr/>
          <p:nvPr/>
        </p:nvSpPr>
        <p:spPr>
          <a:xfrm flipH="1">
            <a:off x="1124640" y="1619280"/>
            <a:ext cx="2519640" cy="187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/>
          <p:cNvSpPr/>
          <p:nvPr/>
        </p:nvSpPr>
        <p:spPr>
          <a:xfrm>
            <a:off x="692280" y="468360"/>
            <a:ext cx="5329080" cy="482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Comic Sans MS"/>
              </a:rPr>
              <a:t>Tournez à droit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 flipH="1">
            <a:off x="981000" y="395280"/>
            <a:ext cx="4967280" cy="4824360"/>
          </a:xfrm>
          <a:prstGeom prst="pi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66ff"/>
                </a:solidFill>
                <a:latin typeface="Comic Sans MS"/>
              </a:rPr>
              <a:t>Tournez à gauch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04640" y="324000"/>
          <a:ext cx="6048720" cy="64800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AutoShape 44"/>
          <p:cNvSpPr/>
          <p:nvPr/>
        </p:nvSpPr>
        <p:spPr>
          <a:xfrm>
            <a:off x="2924280" y="971640"/>
            <a:ext cx="1081080" cy="5256000"/>
          </a:xfrm>
          <a:prstGeom prst="upArrow">
            <a:avLst>
              <a:gd name="adj1" fmla="val 50000"/>
              <a:gd name="adj2" fmla="val 1215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260280" y="702000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Continuez tout dro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AutoShape 44"/>
          <p:cNvSpPr/>
          <p:nvPr/>
        </p:nvSpPr>
        <p:spPr>
          <a:xfrm>
            <a:off x="2924280" y="4572000"/>
            <a:ext cx="2736720" cy="223200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premièr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AutoShape 44"/>
          <p:cNvSpPr/>
          <p:nvPr/>
        </p:nvSpPr>
        <p:spPr>
          <a:xfrm>
            <a:off x="2924280" y="1763640"/>
            <a:ext cx="2736720" cy="23036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deuxièm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60280" y="324000"/>
          <a:ext cx="6193080" cy="697068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AutoShape 58"/>
          <p:cNvSpPr/>
          <p:nvPr/>
        </p:nvSpPr>
        <p:spPr>
          <a:xfrm>
            <a:off x="2852640" y="1403280"/>
            <a:ext cx="2592360" cy="18734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troisièm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4"/>
          <p:cNvSpPr/>
          <p:nvPr/>
        </p:nvSpPr>
        <p:spPr>
          <a:xfrm flipH="1">
            <a:off x="1413000" y="4572000"/>
            <a:ext cx="2520720" cy="2376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premièr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9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mic Sans MS"/>
              </a:rPr>
              <a:t>Pour aller au camping, s’il vous pla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d60093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MCj02308940000[1]"/>
          <p:cNvPicPr/>
          <p:nvPr/>
        </p:nvPicPr>
        <p:blipFill>
          <a:blip r:embed="rId1"/>
          <a:stretch/>
        </p:blipFill>
        <p:spPr>
          <a:xfrm>
            <a:off x="4797360" y="3492360"/>
            <a:ext cx="18748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04640" y="324000"/>
          <a:ext cx="6048720" cy="69120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AutoShape 44"/>
          <p:cNvSpPr/>
          <p:nvPr/>
        </p:nvSpPr>
        <p:spPr>
          <a:xfrm flipH="1">
            <a:off x="1125360" y="1763640"/>
            <a:ext cx="2448000" cy="2303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deuxièm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60280" y="324000"/>
          <a:ext cx="6193080" cy="705636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AutoShape 58"/>
          <p:cNvSpPr/>
          <p:nvPr/>
        </p:nvSpPr>
        <p:spPr>
          <a:xfrm flipH="1">
            <a:off x="1124640" y="1403280"/>
            <a:ext cx="251964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9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troisièm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692280" y="468360"/>
            <a:ext cx="5329080" cy="482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Comic Sans MS"/>
              </a:rPr>
              <a:t>Tournez à droit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 flipH="1">
            <a:off x="981000" y="395280"/>
            <a:ext cx="4967280" cy="4824360"/>
          </a:xfrm>
          <a:prstGeom prst="pi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66ff"/>
                </a:solidFill>
                <a:latin typeface="Comic Sans MS"/>
              </a:rPr>
              <a:t>Tournez à gauch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8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ff"/>
                </a:solidFill>
                <a:latin typeface="Comic Sans MS"/>
              </a:rPr>
              <a:t>Pour aller à la banque, s’il vous pla</a:t>
            </a: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MCj02932420000[1]"/>
          <p:cNvPicPr/>
          <p:nvPr/>
        </p:nvPicPr>
        <p:blipFill>
          <a:blip r:embed="rId1"/>
          <a:stretch/>
        </p:blipFill>
        <p:spPr>
          <a:xfrm>
            <a:off x="115920" y="3851280"/>
            <a:ext cx="17971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8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60093"/>
                </a:solidFill>
                <a:latin typeface="Comic Sans MS"/>
              </a:rPr>
              <a:t>Pour aller à l’h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ôpital</a:t>
            </a:r>
            <a:r>
              <a:rPr b="1" lang="en-GB" sz="4000" spc="-1" strike="noStrike">
                <a:solidFill>
                  <a:srgbClr val="d60093"/>
                </a:solidFill>
                <a:latin typeface="Comic Sans MS"/>
              </a:rPr>
              <a:t>, s’il vous pla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8000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Cj03340280000[1]"/>
          <p:cNvPicPr/>
          <p:nvPr/>
        </p:nvPicPr>
        <p:blipFill>
          <a:blip r:embed="rId1"/>
          <a:stretch/>
        </p:blipFill>
        <p:spPr>
          <a:xfrm>
            <a:off x="4869000" y="3492360"/>
            <a:ext cx="1714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933720" y="4643280"/>
            <a:ext cx="1224000" cy="3457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179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66ff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 flipH="1" flipV="1">
            <a:off x="1125360" y="1258560"/>
            <a:ext cx="1440000" cy="3529080"/>
          </a:xfrm>
          <a:prstGeom prst="line">
            <a:avLst/>
          </a:prstGeom>
          <a:ln w="76320">
            <a:solidFill>
              <a:srgbClr val="0066ff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AutoShape 117"/>
          <p:cNvSpPr/>
          <p:nvPr/>
        </p:nvSpPr>
        <p:spPr>
          <a:xfrm>
            <a:off x="2924280" y="971640"/>
            <a:ext cx="1081080" cy="7488000"/>
          </a:xfrm>
          <a:prstGeom prst="upArrow">
            <a:avLst>
              <a:gd name="adj1" fmla="val 50000"/>
              <a:gd name="adj2" fmla="val 1731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AutoShape 46"/>
          <p:cNvSpPr/>
          <p:nvPr/>
        </p:nvSpPr>
        <p:spPr>
          <a:xfrm>
            <a:off x="3068640" y="5435640"/>
            <a:ext cx="2736720" cy="27367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AutoShape 44"/>
          <p:cNvSpPr/>
          <p:nvPr/>
        </p:nvSpPr>
        <p:spPr>
          <a:xfrm>
            <a:off x="2924280" y="2050920"/>
            <a:ext cx="2736720" cy="2737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60280" y="324000"/>
          <a:ext cx="6193080" cy="849600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102"/>
          <p:cNvSpPr/>
          <p:nvPr/>
        </p:nvSpPr>
        <p:spPr>
          <a:xfrm>
            <a:off x="2852640" y="1619280"/>
            <a:ext cx="2592360" cy="1873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6:17:15Z</dcterms:created>
  <dc:creator> Jonathan Boniface &amp; Lee Ferris</dc:creator>
  <dc:description/>
  <dc:language>en-US</dc:language>
  <cp:lastModifiedBy>Stephanie.Chapman</cp:lastModifiedBy>
  <dcterms:modified xsi:type="dcterms:W3CDTF">2009-10-19T11:01:58Z</dcterms:modified>
  <cp:revision>8</cp:revision>
  <dc:subject/>
  <dc:title>Slide 1</dc:title>
</cp:coreProperties>
</file>