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837-B1C2-4BE7-9E2D-6DA38762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132-45FA-404E-A1C0-6721DFF7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EC7-C57E-42DA-8146-1D3B7659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398-0250-4C98-80F0-0D58A143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31B-DA1C-4A5F-85B7-377D8300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171-AB99-4E31-8EBD-62428259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8D99-5AB1-4F8A-8BEE-D64E331C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704-FDF3-4EA1-809E-9768D89F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7E9-6B21-4192-85A1-E4CB5D3D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456-1973-4A43-B010-043ABC84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D4B9-6A9F-4479-8AB6-CA71BA7D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C02-A15D-40CB-A9E3-B564E872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F4D6-373A-485E-B4EA-555594684D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14" descr="j0293236"/>
          <p:cNvPicPr/>
          <p:nvPr/>
        </p:nvPicPr>
        <p:blipFill>
          <a:blip r:embed="rId1"/>
          <a:stretch/>
        </p:blipFill>
        <p:spPr>
          <a:xfrm>
            <a:off x="260280" y="3708360"/>
            <a:ext cx="1565280" cy="1154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5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Pour aller à l’office de tourisme, s’il vous pla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66ff"/>
                </a:solidFill>
                <a:latin typeface="Comic Sans MS"/>
              </a:rPr>
              <a:t>C’est à ga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AutoShape 50"/>
          <p:cNvSpPr/>
          <p:nvPr/>
        </p:nvSpPr>
        <p:spPr>
          <a:xfrm flipH="1">
            <a:off x="1413000" y="5435640"/>
            <a:ext cx="2520720" cy="2736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AutoShape 44"/>
          <p:cNvSpPr/>
          <p:nvPr/>
        </p:nvSpPr>
        <p:spPr>
          <a:xfrm flipH="1">
            <a:off x="1125360" y="2124000"/>
            <a:ext cx="2448000" cy="2665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60280" y="324000"/>
          <a:ext cx="6193080" cy="849600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2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AutoShape 58"/>
          <p:cNvSpPr/>
          <p:nvPr/>
        </p:nvSpPr>
        <p:spPr>
          <a:xfrm flipH="1">
            <a:off x="1124640" y="1619280"/>
            <a:ext cx="2519640" cy="187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4"/>
          <p:cNvSpPr/>
          <p:nvPr/>
        </p:nvSpPr>
        <p:spPr>
          <a:xfrm>
            <a:off x="692280" y="468360"/>
            <a:ext cx="5329080" cy="4824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Comic Sans MS"/>
              </a:rPr>
              <a:t>Tournez à droit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 flipH="1">
            <a:off x="981000" y="395280"/>
            <a:ext cx="4967280" cy="4824360"/>
          </a:xfrm>
          <a:prstGeom prst="pi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0066ff"/>
                </a:solidFill>
                <a:latin typeface="Comic Sans MS"/>
              </a:rPr>
              <a:t>Tournez à gauch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04640" y="324000"/>
          <a:ext cx="6048720" cy="648000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AutoShape 44"/>
          <p:cNvSpPr/>
          <p:nvPr/>
        </p:nvSpPr>
        <p:spPr>
          <a:xfrm>
            <a:off x="2924280" y="971640"/>
            <a:ext cx="1081080" cy="5256000"/>
          </a:xfrm>
          <a:prstGeom prst="upArrow">
            <a:avLst>
              <a:gd name="adj1" fmla="val 50000"/>
              <a:gd name="adj2" fmla="val 1215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260280" y="702000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Continuez tout dro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04640" y="324000"/>
          <a:ext cx="6048720" cy="698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AutoShape 44"/>
          <p:cNvSpPr/>
          <p:nvPr/>
        </p:nvSpPr>
        <p:spPr>
          <a:xfrm>
            <a:off x="2924280" y="4572000"/>
            <a:ext cx="2736720" cy="223200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ff"/>
                </a:solidFill>
                <a:latin typeface="Comic Sans MS"/>
              </a:rPr>
              <a:t>Prenez la première rue 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04640" y="324000"/>
          <a:ext cx="6048720" cy="698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AutoShape 44"/>
          <p:cNvSpPr/>
          <p:nvPr/>
        </p:nvSpPr>
        <p:spPr>
          <a:xfrm>
            <a:off x="2924280" y="1763640"/>
            <a:ext cx="2736720" cy="230364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ff"/>
                </a:solidFill>
                <a:latin typeface="Comic Sans MS"/>
              </a:rPr>
              <a:t>Prenez la deuxième rue 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260280" y="324000"/>
          <a:ext cx="6193080" cy="697068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07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AutoShape 58"/>
          <p:cNvSpPr/>
          <p:nvPr/>
        </p:nvSpPr>
        <p:spPr>
          <a:xfrm>
            <a:off x="2852640" y="1403280"/>
            <a:ext cx="2592360" cy="187344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9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ff"/>
                </a:solidFill>
                <a:latin typeface="Comic Sans MS"/>
              </a:rPr>
              <a:t>Prenez la troisième rue 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04640" y="324000"/>
          <a:ext cx="6048720" cy="698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4"/>
          <p:cNvSpPr/>
          <p:nvPr/>
        </p:nvSpPr>
        <p:spPr>
          <a:xfrm flipH="1">
            <a:off x="1413000" y="4572000"/>
            <a:ext cx="2520720" cy="2376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enez la première rue 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9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mic Sans MS"/>
              </a:rPr>
              <a:t>Pour aller au camping, s’il vous pla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d60093"/>
                </a:solidFill>
                <a:latin typeface="Comic Sans MS"/>
              </a:rPr>
              <a:t>C’est à dro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MCj02308940000[1]"/>
          <p:cNvPicPr/>
          <p:nvPr/>
        </p:nvPicPr>
        <p:blipFill>
          <a:blip r:embed="rId1"/>
          <a:stretch/>
        </p:blipFill>
        <p:spPr>
          <a:xfrm>
            <a:off x="4797360" y="3492360"/>
            <a:ext cx="18748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04640" y="324000"/>
          <a:ext cx="6048720" cy="691200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AutoShape 44"/>
          <p:cNvSpPr/>
          <p:nvPr/>
        </p:nvSpPr>
        <p:spPr>
          <a:xfrm flipH="1">
            <a:off x="1125360" y="1763640"/>
            <a:ext cx="2448000" cy="2303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enez la deuxième rue 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60280" y="324000"/>
          <a:ext cx="6193080" cy="705636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AutoShape 58"/>
          <p:cNvSpPr/>
          <p:nvPr/>
        </p:nvSpPr>
        <p:spPr>
          <a:xfrm flipH="1">
            <a:off x="1124640" y="1403280"/>
            <a:ext cx="251964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9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enez la troisième rue 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692280" y="468360"/>
            <a:ext cx="5329080" cy="4824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Comic Sans MS"/>
              </a:rPr>
              <a:t>Tournez à droit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 flipH="1">
            <a:off x="981000" y="395280"/>
            <a:ext cx="4967280" cy="4824360"/>
          </a:xfrm>
          <a:prstGeom prst="pi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0066ff"/>
                </a:solidFill>
                <a:latin typeface="Comic Sans MS"/>
              </a:rPr>
              <a:t>Tournez à gauch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8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ff"/>
                </a:solidFill>
                <a:latin typeface="Comic Sans MS"/>
              </a:rPr>
              <a:t>Pour aller à la banque, s’il vous pla</a:t>
            </a: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Comic Sans MS"/>
              </a:rPr>
              <a:t>C’est à ga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MCj02932420000[1]"/>
          <p:cNvPicPr/>
          <p:nvPr/>
        </p:nvPicPr>
        <p:blipFill>
          <a:blip r:embed="rId1"/>
          <a:stretch/>
        </p:blipFill>
        <p:spPr>
          <a:xfrm>
            <a:off x="115920" y="3851280"/>
            <a:ext cx="17971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8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60093"/>
                </a:solidFill>
                <a:latin typeface="Comic Sans MS"/>
              </a:rPr>
              <a:t>Pour aller à l’h</a:t>
            </a:r>
            <a:r>
              <a:rPr b="1" lang="en-US" sz="4000" spc="-1" strike="noStrike">
                <a:solidFill>
                  <a:srgbClr val="d60093"/>
                </a:solidFill>
                <a:latin typeface="Comic Sans MS"/>
              </a:rPr>
              <a:t>ôpital</a:t>
            </a:r>
            <a:r>
              <a:rPr b="1" lang="en-GB" sz="4000" spc="-1" strike="noStrike">
                <a:solidFill>
                  <a:srgbClr val="d60093"/>
                </a:solidFill>
                <a:latin typeface="Comic Sans MS"/>
              </a:rPr>
              <a:t>, s’il vous pla</a:t>
            </a:r>
            <a:r>
              <a:rPr b="1" lang="en-US" sz="4000" spc="-1" strike="noStrike">
                <a:solidFill>
                  <a:srgbClr val="d60093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8000"/>
                </a:solidFill>
                <a:latin typeface="Comic Sans MS"/>
              </a:rPr>
              <a:t>C’est à dro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Cj03340280000[1]"/>
          <p:cNvPicPr/>
          <p:nvPr/>
        </p:nvPicPr>
        <p:blipFill>
          <a:blip r:embed="rId1"/>
          <a:stretch/>
        </p:blipFill>
        <p:spPr>
          <a:xfrm>
            <a:off x="4869000" y="3492360"/>
            <a:ext cx="1714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9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Comic Sans MS"/>
              </a:rPr>
              <a:t>C’est à dro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933720" y="4643280"/>
            <a:ext cx="1224000" cy="3457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0" y="179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66ff"/>
                </a:solidFill>
                <a:latin typeface="Comic Sans MS"/>
              </a:rPr>
              <a:t>C’est à ga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 flipH="1" flipV="1">
            <a:off x="1125360" y="1258560"/>
            <a:ext cx="1440000" cy="3529080"/>
          </a:xfrm>
          <a:prstGeom prst="line">
            <a:avLst/>
          </a:prstGeom>
          <a:ln w="76320">
            <a:solidFill>
              <a:srgbClr val="0066ff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AutoShape 117"/>
          <p:cNvSpPr/>
          <p:nvPr/>
        </p:nvSpPr>
        <p:spPr>
          <a:xfrm>
            <a:off x="2924280" y="971640"/>
            <a:ext cx="1081080" cy="7488000"/>
          </a:xfrm>
          <a:prstGeom prst="upArrow">
            <a:avLst>
              <a:gd name="adj1" fmla="val 50000"/>
              <a:gd name="adj2" fmla="val 1731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AutoShape 46"/>
          <p:cNvSpPr/>
          <p:nvPr/>
        </p:nvSpPr>
        <p:spPr>
          <a:xfrm>
            <a:off x="3068640" y="5435640"/>
            <a:ext cx="2736720" cy="273672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AutoShape 44"/>
          <p:cNvSpPr/>
          <p:nvPr/>
        </p:nvSpPr>
        <p:spPr>
          <a:xfrm>
            <a:off x="2924280" y="2050920"/>
            <a:ext cx="2736720" cy="27370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60280" y="324000"/>
          <a:ext cx="6193080" cy="849600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2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AutoShape 102"/>
          <p:cNvSpPr/>
          <p:nvPr/>
        </p:nvSpPr>
        <p:spPr>
          <a:xfrm>
            <a:off x="2852640" y="1619280"/>
            <a:ext cx="2592360" cy="18730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2T16:17:15Z</dcterms:created>
  <dc:creator> Jonathan Boniface &amp; Lee Ferris</dc:creator>
  <dc:description/>
  <dc:language>en-US</dc:language>
  <cp:lastModifiedBy>Stephanie.Chapman</cp:lastModifiedBy>
  <dcterms:modified xsi:type="dcterms:W3CDTF">2009-10-19T11:01:58Z</dcterms:modified>
  <cp:revision>8</cp:revision>
  <dc:subject/>
  <dc:title>Slide 1</dc:title>
</cp:coreProperties>
</file>