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C9D99-7955-49CC-AFF1-63AF7DA62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C8CFC-A82E-4C3C-B4C5-55D7FB01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D1B51-1423-442E-A889-64DAD6A5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C7A7-6B88-49F8-9903-778FE72EA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BC5F4-CA25-491B-92CE-14BED835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404C-A5A4-4B65-B2C7-666F97AFA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ADAF1-9623-4669-9B79-E1C7B36C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7AA8-7726-4684-9309-629BB01C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9384-6EEC-4AB5-8C52-27A56238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90CE-1942-4B1D-A7BF-07F371A8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07FA8-82A5-493B-B45B-CED57FE4E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27AC6-DB14-434F-9B6B-A57373C6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9C81-5010-4533-89E8-492419B4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E1BC-46FE-45CE-900F-C91CCB15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96B31-A8E6-4D34-928B-BFA9D5EF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570A-2B57-4B3B-9EDE-B0530371A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D1538-049A-4285-87EE-89C8D62A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DBB16-5EAC-4330-8A92-CC2F2E266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8509-BE0A-404C-B6DC-9B2966BE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78565-2E96-45D3-B318-2F987D05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21B82-A0E6-4951-BD05-7C9F752A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3CB7-1D5B-4B88-8039-F51F71D8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4A51-5CD5-4A0A-93F3-DB503B2C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9ED2-D5C8-4C2E-B309-DEBA25BC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E6C7-07DD-426D-B23E-235B0DE1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8A116-58C1-4869-B2DB-DB082501479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685800" y="6858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 u="sng">
                <a:solidFill>
                  <a:srgbClr val="ffffff"/>
                </a:solidFill>
                <a:uFillTx/>
                <a:latin typeface="Arial"/>
              </a:rPr>
              <a:t>Les rep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900000" y="2997360"/>
            <a:ext cx="7010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bjectif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 say how many meals you eat  a day and w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 say your favourite d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Quel est ton plat préféré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n plat préféré c’est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Quelle cuisine aimes-tu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’aime la cuisine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775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petit déjeuner – 7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1332000" y="4365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croiss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5724360" y="43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th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2" descr="croissant"/>
          <p:cNvPicPr/>
          <p:nvPr/>
        </p:nvPicPr>
        <p:blipFill>
          <a:blip r:embed="rId1"/>
          <a:stretch/>
        </p:blipFill>
        <p:spPr>
          <a:xfrm>
            <a:off x="455760" y="1925640"/>
            <a:ext cx="3279600" cy="1981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3" descr="coffee"/>
          <p:cNvPicPr/>
          <p:nvPr/>
        </p:nvPicPr>
        <p:blipFill>
          <a:blip r:embed="rId2"/>
          <a:stretch/>
        </p:blipFill>
        <p:spPr>
          <a:xfrm>
            <a:off x="5257800" y="1608120"/>
            <a:ext cx="2278080" cy="2370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775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déjeuner – 12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15" descr="steak and chips"/>
          <p:cNvPicPr/>
          <p:nvPr/>
        </p:nvPicPr>
        <p:blipFill>
          <a:blip r:embed="rId1"/>
          <a:stretch/>
        </p:blipFill>
        <p:spPr>
          <a:xfrm>
            <a:off x="4859280" y="1413000"/>
            <a:ext cx="2808360" cy="24066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salade"/>
          <p:cNvPicPr/>
          <p:nvPr/>
        </p:nvPicPr>
        <p:blipFill>
          <a:blip r:embed="rId2"/>
          <a:stretch/>
        </p:blipFill>
        <p:spPr>
          <a:xfrm>
            <a:off x="826920" y="1268280"/>
            <a:ext cx="2664000" cy="19940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11"/>
          <p:cNvSpPr/>
          <p:nvPr/>
        </p:nvSpPr>
        <p:spPr>
          <a:xfrm>
            <a:off x="1042920" y="342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sal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16"/>
          <p:cNvSpPr/>
          <p:nvPr/>
        </p:nvSpPr>
        <p:spPr>
          <a:xfrm>
            <a:off x="5219640" y="386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sandw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17" descr="chocolate mousse"/>
          <p:cNvPicPr/>
          <p:nvPr/>
        </p:nvPicPr>
        <p:blipFill>
          <a:blip r:embed="rId3"/>
          <a:stretch/>
        </p:blipFill>
        <p:spPr>
          <a:xfrm>
            <a:off x="1763640" y="4365720"/>
            <a:ext cx="1676520" cy="193356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9"/>
          <p:cNvSpPr/>
          <p:nvPr/>
        </p:nvSpPr>
        <p:spPr>
          <a:xfrm>
            <a:off x="3711960" y="5229360"/>
            <a:ext cx="34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mousse au choco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9" descr="C:\Documents and Settings\Stephanie.Chapman\Local Settings\Temporary Internet Files\Content.IE5\30UWMAMN\MPj04025070000[1].jpg"/>
          <p:cNvPicPr/>
          <p:nvPr/>
        </p:nvPicPr>
        <p:blipFill>
          <a:blip r:embed="rId4"/>
          <a:stretch/>
        </p:blipFill>
        <p:spPr>
          <a:xfrm>
            <a:off x="4929120" y="1214280"/>
            <a:ext cx="2714760" cy="271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406080"/>
            <a:ext cx="77756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goûter – 16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1262880" y="4653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ain et du nut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15" descr="le gouter"/>
          <p:cNvPicPr/>
          <p:nvPr/>
        </p:nvPicPr>
        <p:blipFill>
          <a:blip r:embed="rId1"/>
          <a:stretch/>
        </p:blipFill>
        <p:spPr>
          <a:xfrm>
            <a:off x="1405080" y="1920960"/>
            <a:ext cx="2624040" cy="2643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7" descr="Petits gateaux"/>
          <p:cNvPicPr/>
          <p:nvPr/>
        </p:nvPicPr>
        <p:blipFill>
          <a:blip r:embed="rId2"/>
          <a:stretch/>
        </p:blipFill>
        <p:spPr>
          <a:xfrm>
            <a:off x="4791240" y="1920960"/>
            <a:ext cx="3143160" cy="25034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19"/>
          <p:cNvSpPr/>
          <p:nvPr/>
        </p:nvSpPr>
        <p:spPr>
          <a:xfrm>
            <a:off x="4573080" y="45813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thé et des petits gâte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22160" y="288720"/>
            <a:ext cx="7707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dîner – 19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Picture 10" descr="salmon"/>
          <p:cNvPicPr/>
          <p:nvPr/>
        </p:nvPicPr>
        <p:blipFill>
          <a:blip r:embed="rId1"/>
          <a:stretch/>
        </p:blipFill>
        <p:spPr>
          <a:xfrm>
            <a:off x="4932360" y="1357200"/>
            <a:ext cx="2376360" cy="1790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9" descr="tarte aux pommes"/>
          <p:cNvPicPr/>
          <p:nvPr/>
        </p:nvPicPr>
        <p:blipFill>
          <a:blip r:embed="rId2"/>
          <a:stretch/>
        </p:blipFill>
        <p:spPr>
          <a:xfrm>
            <a:off x="987480" y="4006800"/>
            <a:ext cx="2112840" cy="14716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6"/>
          <p:cNvSpPr/>
          <p:nvPr/>
        </p:nvSpPr>
        <p:spPr>
          <a:xfrm>
            <a:off x="4284720" y="3284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saumon avec des haric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972720" y="558972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tarte aux pom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1116000" y="3357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 la sou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24" descr="Cheeses"/>
          <p:cNvPicPr/>
          <p:nvPr/>
        </p:nvPicPr>
        <p:blipFill>
          <a:blip r:embed="rId3"/>
          <a:stretch/>
        </p:blipFill>
        <p:spPr>
          <a:xfrm>
            <a:off x="5580000" y="3789360"/>
            <a:ext cx="1844640" cy="19191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26"/>
          <p:cNvSpPr/>
          <p:nvPr/>
        </p:nvSpPr>
        <p:spPr>
          <a:xfrm>
            <a:off x="5798160" y="5805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fro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28" descr="soup"/>
          <p:cNvPicPr/>
          <p:nvPr/>
        </p:nvPicPr>
        <p:blipFill>
          <a:blip r:embed="rId4"/>
          <a:stretch/>
        </p:blipFill>
        <p:spPr>
          <a:xfrm>
            <a:off x="755640" y="1407960"/>
            <a:ext cx="2344680" cy="1754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Je prends quatre repas: le pet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éjeuner, le déjeuner, le go</a:t>
            </a: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û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er 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e dî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Combien de repas prends-tu par jour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Tu prends le ……. à quelle heure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petit déjeuner à…..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déjeun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goût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dîn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07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Quel est ton plat préféré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076720" y="321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oulet et des fri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118728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pizz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179280" y="3284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cheeseburger et des fri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5295600" y="580536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oulet au cur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15" descr="cheeseburger"/>
          <p:cNvPicPr/>
          <p:nvPr/>
        </p:nvPicPr>
        <p:blipFill>
          <a:blip r:embed="rId1"/>
          <a:stretch/>
        </p:blipFill>
        <p:spPr>
          <a:xfrm>
            <a:off x="900000" y="1341360"/>
            <a:ext cx="2160720" cy="17575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6" descr="chicken and chips"/>
          <p:cNvPicPr/>
          <p:nvPr/>
        </p:nvPicPr>
        <p:blipFill>
          <a:blip r:embed="rId2"/>
          <a:stretch/>
        </p:blipFill>
        <p:spPr>
          <a:xfrm>
            <a:off x="5435640" y="1413000"/>
            <a:ext cx="2469960" cy="1633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7" descr="pizza"/>
          <p:cNvPicPr/>
          <p:nvPr/>
        </p:nvPicPr>
        <p:blipFill>
          <a:blip r:embed="rId3"/>
          <a:stretch/>
        </p:blipFill>
        <p:spPr>
          <a:xfrm>
            <a:off x="971640" y="3933720"/>
            <a:ext cx="2098440" cy="20811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8" descr="Curry"/>
          <p:cNvPicPr/>
          <p:nvPr/>
        </p:nvPicPr>
        <p:blipFill>
          <a:blip r:embed="rId4"/>
          <a:stretch/>
        </p:blipFill>
        <p:spPr>
          <a:xfrm>
            <a:off x="5364000" y="3860640"/>
            <a:ext cx="2232360" cy="178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07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Quelle cuisine aimes-tu 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471636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indien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61128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chino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539640" y="3284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italien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5008680" y="5950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frança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12" descr="spaghetti bolognese"/>
          <p:cNvPicPr/>
          <p:nvPr/>
        </p:nvPicPr>
        <p:blipFill>
          <a:blip r:embed="rId1"/>
          <a:stretch/>
        </p:blipFill>
        <p:spPr>
          <a:xfrm>
            <a:off x="900000" y="1278000"/>
            <a:ext cx="2143080" cy="19270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indian food"/>
          <p:cNvPicPr/>
          <p:nvPr/>
        </p:nvPicPr>
        <p:blipFill>
          <a:blip r:embed="rId2"/>
          <a:stretch/>
        </p:blipFill>
        <p:spPr>
          <a:xfrm>
            <a:off x="4932360" y="1484280"/>
            <a:ext cx="2398680" cy="1741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6" descr="chinese food"/>
          <p:cNvPicPr/>
          <p:nvPr/>
        </p:nvPicPr>
        <p:blipFill>
          <a:blip r:embed="rId3"/>
          <a:stretch/>
        </p:blipFill>
        <p:spPr>
          <a:xfrm>
            <a:off x="1042920" y="408312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8" descr="French onion soup"/>
          <p:cNvPicPr/>
          <p:nvPr/>
        </p:nvPicPr>
        <p:blipFill>
          <a:blip r:embed="rId4"/>
          <a:stretch/>
        </p:blipFill>
        <p:spPr>
          <a:xfrm>
            <a:off x="5148360" y="4076640"/>
            <a:ext cx="2411280" cy="184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47:37Z</dcterms:created>
  <dc:creator>J. Reseigh</dc:creator>
  <dc:description/>
  <dc:language>en-US</dc:language>
  <cp:lastModifiedBy>Stephanie.Chapman</cp:lastModifiedBy>
  <dcterms:modified xsi:type="dcterms:W3CDTF">2009-10-21T18:22:18Z</dcterms:modified>
  <cp:revision>44</cp:revision>
  <dc:subject/>
  <dc:title>PowerPoint Presentation</dc:title>
</cp:coreProperties>
</file>