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9740-90BF-4218-BF7E-E5BD6E84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9558-4A1E-4E67-BD6A-920F9EF4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71E7-A296-4D6A-ACC7-454CB0D9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AAE5-5162-47F2-8975-E588E25A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E1D0-BC51-4DDB-85B4-AB8AA995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858-EB21-47DA-B78F-EF4CA38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0F8F-F28D-442B-BE79-15194653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BE5B-FA7F-4412-BE73-B924D30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DFD7-CB8C-4AC5-AC6C-9A8BEC8C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E47A-F4AC-4E3F-A6E9-01FB6839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CED8-DC11-49F6-AF84-915A3FA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29F5-3772-4275-9DA7-AF8E9CB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471-A52B-40D6-AEEB-AB552016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182-D1A5-4684-8D5D-C047C97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B2A-10DA-4B47-BA78-54C4966D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CF32-C7B9-4AFE-BDE2-82DD48F0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117D-DF1E-4886-B3C5-EC212766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5A8E-F70E-4610-80C1-3F6ACF6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C0DC-8EDC-4103-9981-AF6E904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31A6-0321-482A-A167-6865671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FBB3-C760-41F5-853B-99B9918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5B2B-77A9-43F2-9BDD-0E81E27B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E825-E228-4B9E-8CEE-0B58A4C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EC34-A5E2-479E-9AFF-D51A116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756-65E2-4D7B-80C8-13CDCD4B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9509-1B8A-47F8-93AE-9653704E1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ffffff"/>
                </a:solidFill>
                <a:uFillTx/>
                <a:latin typeface="Arial"/>
              </a:rPr>
              <a:t>Les rep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900000" y="2997360"/>
            <a:ext cx="7010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if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how many meals you eat  a day and 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your favourite d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 est ton plat préféré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 plat préféré c’est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le cuisine aime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’aime la cuisin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petit déjeuner – 7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332000" y="43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72436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2" descr="croissant"/>
          <p:cNvPicPr/>
          <p:nvPr/>
        </p:nvPicPr>
        <p:blipFill>
          <a:blip r:embed="rId1"/>
          <a:stretch/>
        </p:blipFill>
        <p:spPr>
          <a:xfrm>
            <a:off x="455760" y="1925640"/>
            <a:ext cx="3279600" cy="1981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coffee"/>
          <p:cNvPicPr/>
          <p:nvPr/>
        </p:nvPicPr>
        <p:blipFill>
          <a:blip r:embed="rId2"/>
          <a:stretch/>
        </p:blipFill>
        <p:spPr>
          <a:xfrm>
            <a:off x="5257800" y="1608120"/>
            <a:ext cx="22780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éjeuner – 12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15" descr="steak and chips"/>
          <p:cNvPicPr/>
          <p:nvPr/>
        </p:nvPicPr>
        <p:blipFill>
          <a:blip r:embed="rId1"/>
          <a:stretch/>
        </p:blipFill>
        <p:spPr>
          <a:xfrm>
            <a:off x="4859280" y="1413000"/>
            <a:ext cx="2808360" cy="2406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salade"/>
          <p:cNvPicPr/>
          <p:nvPr/>
        </p:nvPicPr>
        <p:blipFill>
          <a:blip r:embed="rId2"/>
          <a:stretch/>
        </p:blipFill>
        <p:spPr>
          <a:xfrm>
            <a:off x="826920" y="126828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1"/>
          <p:cNvSpPr/>
          <p:nvPr/>
        </p:nvSpPr>
        <p:spPr>
          <a:xfrm>
            <a:off x="104292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sal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6"/>
          <p:cNvSpPr/>
          <p:nvPr/>
        </p:nvSpPr>
        <p:spPr>
          <a:xfrm>
            <a:off x="5219640" y="38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7" descr="chocolate mousse"/>
          <p:cNvPicPr/>
          <p:nvPr/>
        </p:nvPicPr>
        <p:blipFill>
          <a:blip r:embed="rId3"/>
          <a:stretch/>
        </p:blipFill>
        <p:spPr>
          <a:xfrm>
            <a:off x="1763640" y="4365720"/>
            <a:ext cx="1676520" cy="193356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9"/>
          <p:cNvSpPr/>
          <p:nvPr/>
        </p:nvSpPr>
        <p:spPr>
          <a:xfrm>
            <a:off x="3711960" y="522936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mousse au choc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" descr="C:\Documents and Settings\Stephanie.Chapman\Local Settings\Temporary Internet Files\Content.IE5\30UWMAMN\MPj04025070000[1].jpg"/>
          <p:cNvPicPr/>
          <p:nvPr/>
        </p:nvPicPr>
        <p:blipFill>
          <a:blip r:embed="rId4"/>
          <a:stretch/>
        </p:blipFill>
        <p:spPr>
          <a:xfrm>
            <a:off x="4929120" y="121428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756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goûter – 16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1262880" y="4653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ain et du nut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15" descr="le gouter"/>
          <p:cNvPicPr/>
          <p:nvPr/>
        </p:nvPicPr>
        <p:blipFill>
          <a:blip r:embed="rId1"/>
          <a:stretch/>
        </p:blipFill>
        <p:spPr>
          <a:xfrm>
            <a:off x="1405080" y="1920960"/>
            <a:ext cx="2624040" cy="2643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Petits gateaux"/>
          <p:cNvPicPr/>
          <p:nvPr/>
        </p:nvPicPr>
        <p:blipFill>
          <a:blip r:embed="rId2"/>
          <a:stretch/>
        </p:blipFill>
        <p:spPr>
          <a:xfrm>
            <a:off x="4791240" y="1920960"/>
            <a:ext cx="3143160" cy="25034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9"/>
          <p:cNvSpPr/>
          <p:nvPr/>
        </p:nvSpPr>
        <p:spPr>
          <a:xfrm>
            <a:off x="4573080" y="45813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 et des petits gâte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2160" y="288720"/>
            <a:ext cx="7707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îner – 19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10" descr="salmon"/>
          <p:cNvPicPr/>
          <p:nvPr/>
        </p:nvPicPr>
        <p:blipFill>
          <a:blip r:embed="rId1"/>
          <a:stretch/>
        </p:blipFill>
        <p:spPr>
          <a:xfrm>
            <a:off x="4932360" y="135720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9" descr="tarte aux pommes"/>
          <p:cNvPicPr/>
          <p:nvPr/>
        </p:nvPicPr>
        <p:blipFill>
          <a:blip r:embed="rId2"/>
          <a:stretch/>
        </p:blipFill>
        <p:spPr>
          <a:xfrm>
            <a:off x="987480" y="4006800"/>
            <a:ext cx="2112840" cy="14716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6"/>
          <p:cNvSpPr/>
          <p:nvPr/>
        </p:nvSpPr>
        <p:spPr>
          <a:xfrm>
            <a:off x="4284720" y="3284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saumon avec des haric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972720" y="55897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tarte aux pom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116000" y="3357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 la sou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4" descr="Cheeses"/>
          <p:cNvPicPr/>
          <p:nvPr/>
        </p:nvPicPr>
        <p:blipFill>
          <a:blip r:embed="rId3"/>
          <a:stretch/>
        </p:blipFill>
        <p:spPr>
          <a:xfrm>
            <a:off x="5580000" y="3789360"/>
            <a:ext cx="1844640" cy="1919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6"/>
          <p:cNvSpPr/>
          <p:nvPr/>
        </p:nvSpPr>
        <p:spPr>
          <a:xfrm>
            <a:off x="5798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fro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8" descr="soup"/>
          <p:cNvPicPr/>
          <p:nvPr/>
        </p:nvPicPr>
        <p:blipFill>
          <a:blip r:embed="rId4"/>
          <a:stretch/>
        </p:blipFill>
        <p:spPr>
          <a:xfrm>
            <a:off x="755640" y="1407960"/>
            <a:ext cx="2344680" cy="175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e prends quatre repas: le pet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éjeuner, le déjeuner, le go</a:t>
            </a: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û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er 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e dî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Combien de repas prends-tu par jour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u prends le ……. à quelle heure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petit déjeuner à…..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éjeu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goût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î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 est ton plat préféré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076720" y="32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18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pizz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179280" y="328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heeseburger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295600" y="5805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au cur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5" descr="cheeseburger"/>
          <p:cNvPicPr/>
          <p:nvPr/>
        </p:nvPicPr>
        <p:blipFill>
          <a:blip r:embed="rId1"/>
          <a:stretch/>
        </p:blipFill>
        <p:spPr>
          <a:xfrm>
            <a:off x="900000" y="1341360"/>
            <a:ext cx="2160720" cy="1757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chicken and chips"/>
          <p:cNvPicPr/>
          <p:nvPr/>
        </p:nvPicPr>
        <p:blipFill>
          <a:blip r:embed="rId2"/>
          <a:stretch/>
        </p:blipFill>
        <p:spPr>
          <a:xfrm>
            <a:off x="5435640" y="1413000"/>
            <a:ext cx="2469960" cy="163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pizza"/>
          <p:cNvPicPr/>
          <p:nvPr/>
        </p:nvPicPr>
        <p:blipFill>
          <a:blip r:embed="rId3"/>
          <a:stretch/>
        </p:blipFill>
        <p:spPr>
          <a:xfrm>
            <a:off x="971640" y="3933720"/>
            <a:ext cx="2098440" cy="2081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Curry"/>
          <p:cNvPicPr/>
          <p:nvPr/>
        </p:nvPicPr>
        <p:blipFill>
          <a:blip r:embed="rId4"/>
          <a:stretch/>
        </p:blipFill>
        <p:spPr>
          <a:xfrm>
            <a:off x="5364000" y="3860640"/>
            <a:ext cx="2232360" cy="17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le cuisine aimes-tu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471636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nd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1128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chino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9640" y="328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tal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5008680" y="5950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franç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2" descr="spaghetti bolognese"/>
          <p:cNvPicPr/>
          <p:nvPr/>
        </p:nvPicPr>
        <p:blipFill>
          <a:blip r:embed="rId1"/>
          <a:stretch/>
        </p:blipFill>
        <p:spPr>
          <a:xfrm>
            <a:off x="900000" y="1278000"/>
            <a:ext cx="2143080" cy="1927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indian food"/>
          <p:cNvPicPr/>
          <p:nvPr/>
        </p:nvPicPr>
        <p:blipFill>
          <a:blip r:embed="rId2"/>
          <a:stretch/>
        </p:blipFill>
        <p:spPr>
          <a:xfrm>
            <a:off x="4932360" y="1484280"/>
            <a:ext cx="2398680" cy="174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chinese food"/>
          <p:cNvPicPr/>
          <p:nvPr/>
        </p:nvPicPr>
        <p:blipFill>
          <a:blip r:embed="rId3"/>
          <a:stretch/>
        </p:blipFill>
        <p:spPr>
          <a:xfrm>
            <a:off x="1042920" y="40831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8" descr="French onion soup"/>
          <p:cNvPicPr/>
          <p:nvPr/>
        </p:nvPicPr>
        <p:blipFill>
          <a:blip r:embed="rId4"/>
          <a:stretch/>
        </p:blipFill>
        <p:spPr>
          <a:xfrm>
            <a:off x="5148360" y="4076640"/>
            <a:ext cx="2411280" cy="18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47:37Z</dcterms:created>
  <dc:creator>J. Reseigh</dc:creator>
  <dc:description/>
  <dc:language>en-US</dc:language>
  <cp:lastModifiedBy>Stephanie.Chapman</cp:lastModifiedBy>
  <dcterms:modified xsi:type="dcterms:W3CDTF">2009-10-21T18:22:18Z</dcterms:modified>
  <cp:revision>44</cp:revision>
  <dc:subject/>
  <dc:title>PowerPoint Presentation</dc:title>
</cp:coreProperties>
</file>